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camera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087-E20E-472A-99D9-89037148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246-D832-4D5B-800E-95B3268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88A-3BE8-47C6-A45A-773E209A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92F-1336-4778-9EA7-E5B465D8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098C-9B51-44E0-BE4E-C08F40E6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3DD8-1853-4074-85B5-2803C16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43C-C922-4D12-9C58-96796231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0CC-D327-4BD2-BFC0-CDE7607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D745-7FEE-4689-948B-88AED6A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D976-0F7D-4C73-80C1-F1D1DDAB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E0A5-9669-4291-8237-655D42A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4E2-A611-499D-975B-757CA6C7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64B-41D9-415C-AAFD-7E4AAAE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AA85-0AB6-47C4-89A9-CAF4E4A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CE6B-B6EB-4459-88B9-11CB852A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146-0D33-4C8B-84A4-8ED0840F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892D-4FCC-4D6F-8BBF-4794DD9C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CD1-2553-43CE-A12C-05250FA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AC4-AFC1-4CC0-8A46-94C64AEE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6DE-AAC2-4498-8615-4C11B8A0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FE8-4999-423D-9FA1-AE22F3B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A2F-3277-449E-9F45-BB2CADC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7C3-9EFA-43FE-8D28-2B686C4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254-794E-4897-A42F-FA992FA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2895480" cy="131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727-7936-40B0-9D4B-AFACFEBF0A64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D15A-228A-4A55-8A12-7BC4269626C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F50C-3D93-4E40-B545-EE5F01E8BA77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470-92D4-41AA-B90D-711984C8E9F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a/imgres?imgurl=http://www.solarnavigator.net/history/explorers_history/HMS_Beagle.jpg&amp;imgrefurl=http://www.solarnavigator.net/history/hms_beagle.htm&amp;h=413&amp;w=631&amp;sz=38&amp;hl=en&amp;start=12&amp;um=1&amp;tbnid=ivhbhvnHhlOv6M:&amp;tbnh=90&amp;tbnw=137&amp;prev=/images%3Fq%3Dcharles%2Bdarwin%2BHMS%2BBeagle%26um%3D1%26hl%3Den%26safe%3Dactiv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ology 12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Closer Look into Scie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 cont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Homologous Structures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Same underlying structures, different functions, different environments &amp; common ancest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577960"/>
            <a:ext cx="8305560" cy="4280040"/>
            <a:chOff x="533520" y="2577960"/>
            <a:chExt cx="8305560" cy="42800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33520" y="2577960"/>
              <a:ext cx="830556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533520" y="2577960"/>
              <a:ext cx="8305560" cy="42800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7B8-0C8A-4561-AC68-D1E13D66BA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22CDD-A165-4F95-A92A-B6A14659A224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. Vestigial Structures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248520" cy="42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884-D9E0-41E6-9FEE-DA4842C91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8957-7A19-4D8A-A30F-9AC4F68107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ryonic Developmen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443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608-A20A-4D21-9E55-A0B8B61A18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E3710-7596-4EB2-84E9-8775958DAE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5. Biochemistry/Physiolog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554640" cy="39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785-4BD5-4FA5-B84B-66FFA1EDCD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4A342-4C15-4A83-95C7-1F4CB1AC62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te Techtonic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6971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Geological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tinental masses were one land mass that explains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osely related species have common ancestors on now separated con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B51-0221-4329-8E1C-C64A6420E0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41437-6118-4B93-ADFE-B5B8422B93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marck’s The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se and Disuse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se of structure results in evolu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cquired characteristics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suse results in….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0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E3C-663A-4590-B5D7-CEAB461AB8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F330A-7A61-42BE-911E-08E4D0E906B1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18F-01B4-452E-81F2-1B73815848D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D38E8-4EE6-46F5-AC03-87DE43345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marck’s Hypothe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marck does not state how acquired characteristics are inherited!  No support to back his claim. (although many at this time believed in it!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hat do we now know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n organisms use of a body part does not change the genes the organism carries…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cept for mutations, genes are passed unchanged from generation to generation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222-FAAB-458B-9ECA-93E7974DA2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A1BF9-2F7C-44E5-B78B-60F9AB3B0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is Darwin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50 years after Lamarc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54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09F-8287-4311-92B4-FEF4A153A7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7837F-7120-417A-8A4E-07B7439A0E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14480" y="1371600"/>
            <a:ext cx="93729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MS Beag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1838160" cy="12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E3A-3ABF-4D9A-A330-1036304BFB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8ED86-926F-483A-A29C-5B77DB1718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cien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rganized way of using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learn about the natural wor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…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ody of knowledg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at scientists have built up after years of using this proces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7FD-77D6-4DA6-B108-8441AC029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CF48E-43B3-4084-A6F7-A7605576FF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rwin &amp; Natural Selec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arwin published a book called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“The Origin of Species by Means of Natural Selection”.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ike Lamarck, Darwin supported the concept of evolution.  However, Darwi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posed an entirely different mechanism to account for the changes that formed new speci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D22-327B-4E13-8506-44369A8392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49D91-0434-4AE5-8EFB-2E4576D63E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ummary of Darwin’s Theory of Natural Selection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. In any population, more offspring are produced than will survive and reprodu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. There is competition for resources among offspr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. There is variation of traits within populations of organism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. Some of these traits are more advantageous than oth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5. Because organisms with adaptive traits have a greater chance of reproducing, their offspring tend to make up an increasingly larger proportion of the popul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*The activity of the environment (natural selection) produced adapt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ED7-AF4E-4919-90A0-60ACD3D25D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E6065-062F-44B1-8671-A529DC23DE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Proc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king a question; making careful observations and collecting precise data;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reating a testable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ing exper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llecting evidence to test the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alyzing and interpreting data to accept or reject a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vising a hypothesis based on new evidence and retesting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reating explanations that describe patterns 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relationships and link evidence to pre-existing knowledge; 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senting research for review by scientific pe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289-E2C1-4B31-8991-BF5882C2FC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06876-5DBB-4AD3-8DED-519186F49C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…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ften begins with 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that lea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 a ques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ultimat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f scientis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s to develop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eeper understandin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f the natural worl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lies o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inference and interpretatio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 Ex: understanding the nature of atoms as well as  determining the mechanism for evolutio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1BB-FD8E-4A08-8838-8111C54849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D7D39-3C20-4F56-89CE-3B743AA964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cience is built on the principle that the sam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atural law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w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observe today have been operating over tim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ne way we can add to our knowledge is by developing tools and techniques that will extend this frontier. Examples??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C22-DEF1-4F51-B6DD-E01BAA6367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EAFD-F7F4-47D4-A098-02209C26AF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s we learn more, we can challenge previous assump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hile scientific ideas are always open to challenge, some ideas withstand the test of time, are supported by an increasing amount of evidence, and becom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ll-grounded theori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420-F62B-4584-ACE5-1E25293625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AD6A1-399B-4DF9-9FBB-2646491F06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process of change that produces new species from preexisting species is called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OLUTION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theory of evolution provides a scientific explanation for the past and present diversity of life on Earth.  However, it does not explain the ultimate origin of the univers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742-0CBD-437A-8D9E-B17E37417D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2495F-A8E9-417A-A967-1B9ED39487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versial?  Keep in Mind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cience never provides us with a definitive final answer to any ques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Evolution is one well supported explanation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You don’t need to accept evolution to learn biology; but it does mean that no person is fully educated without an understanding of it”. – Kenneth Mill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77C-8821-49EB-9A6F-C66239EB37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0F8C2-2940-451F-9EA0-A71E441815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Eviden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ossil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– sedimentary roc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Grand Cany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ber (fossilized resin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rozen Arctic Soi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trific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ssil Record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ge of Fossil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ition in the rock (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takes approx. 1000 years to form 30 cm of sedimentary rock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D55-DDC4-4F39-8034-4C4C2427EB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5109C-4D84-4B6C-A5C1-84B7E2F9E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40:16Z</dcterms:created>
  <dc:creator>lisa.holyokewalsh</dc:creator>
  <dc:description/>
  <dc:language>en-US</dc:language>
  <cp:lastModifiedBy>nbdoe</cp:lastModifiedBy>
  <dcterms:modified xsi:type="dcterms:W3CDTF">2008-02-06T16:08:02Z</dcterms:modified>
  <cp:revision>15</cp:revision>
  <dc:subject/>
  <dc:title>Biology 122</dc:title>
</cp:coreProperties>
</file>